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1F009-0D9E-46AE-BC6C-34E8BCCF77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80A110-E303-4225-B58F-353C1D6E5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475DED-2C85-4F00-A189-E5CFB40B27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5E0192-668E-40DB-A7F7-F879630614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27B989-AB50-46DC-AB9B-A51C8A814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39F475-9825-4903-8CCF-8EC48B341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9C7FEC-2D9C-4ED3-A96E-0A5ECD1E1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BDA42D-F1B9-4D86-B772-651F52BDB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EB5B32-5757-474E-BBCE-6FA061153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0091CA-D92C-473C-90B5-0F15BFAA3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61816B-0369-4D45-8062-CDA87A3B9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CB2519-E9A6-4F45-8AB7-F0B8623CF9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E963-49E4-4D2F-8E4D-38D2D7144F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2771-21CC-4081-95FB-EE162BE001A1}"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F8D6-F34E-4C92-98E7-881217A09326}"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6FA8-A0E8-4B3B-92EA-04D18C59D27F}" type="datetime">
              <a:rPr b="0" lang="zh-CN" sz="1400" spc="-1" strike="noStrike">
                <a:solidFill>
                  <a:srgbClr val="046ca6"/>
                </a:solidFill>
                <a:latin typeface="Times New Roman"/>
                <a:ea typeface="宋体"/>
              </a:rPr>
              <a:t>26/7/29</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